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6E9FD-8659-4C67-8308-40AE4F2D0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22E09-551D-4645-82B7-69379FA40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65A10-DB07-432A-B1E4-7A53A345A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1CC8D-DEAC-42A6-A5A3-FB5AE06BD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33DAE-96A7-4C2C-A60E-BD521E7DE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4A17-89CA-45DA-AE21-70F5E2E08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BF46-90FC-4841-A2E4-A8139154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10FF-C2B3-4273-A263-E0A24F25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34D1-B0F8-44F4-ADED-CD00F7589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3A06-EA11-4E4B-8E44-22D2EF3C4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AADF5-852C-4E24-974A-25870C22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7500-2D19-46DF-98F4-71BE29A8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D88B-BFF9-42E0-8A2C-8235BCAA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DF30-6587-464E-BFDD-6C78B4E4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DE3A2-A190-446C-B850-FAE5E5CBD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AC1D-C46E-47BF-8CE4-60741A53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6BFE-7633-434E-A4B8-4E675592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45B63-F111-4DA2-8B05-A51A15543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3A208-1694-4454-B362-D6FF4EAB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54D0B-7BB9-4E19-9FEB-62E7BE6A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FF6ED-5007-4BA3-8EE1-57D37EFB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F10A2-AC75-492C-93CB-2E0B2C80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20979-7F02-46B7-90C9-660EBAC9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6024A-FE3E-4FC8-9A0A-40C7D6DA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5FE8-314F-4F34-88E1-070D800C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6138-22B7-46EB-AD41-1DE4135E22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EB570-4B53-4F8F-A2C6-0704738472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ummer 2007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7-07-11T20:47:41Z</dcterms:modified>
  <cp:revision>40</cp:revision>
  <dc:subject/>
  <dc:title>Solving Single Variable Equations</dc:title>
</cp:coreProperties>
</file>